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672A-5D14-4601-AB81-FE5CC5A42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D3D1-8143-404D-86A4-345121A41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4237-EB2A-4BC7-A729-0FAA09C5A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B84-64FD-4C7E-BE4E-D74802D6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834-E167-40DB-802A-018055CF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9E6-3A9D-455D-AE46-1B160901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1E9-D67C-434A-8B6D-6A252338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D7C-3F52-4CBE-8808-5375168A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BFD-0203-45F9-A10F-5ECBC75D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DFD-5577-4DC8-8D25-9FC26059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73D-9F6C-4FC2-A558-9E7EE49F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0E2-EDDA-40E1-8B87-08983AB6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02A-C476-4330-821F-F10BEE14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645-FFA3-4A32-95FE-EA5AEB4D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E99-E6E7-4FE7-87FE-21F0F2E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7B4F-09B1-4434-9341-90729B9EC6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33360" y="1989000"/>
            <a:ext cx="6453360" cy="1440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Gastric carcinom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357336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0" name="Picture 4" descr="D:\mcst logo.jpg"/>
          <p:cNvPicPr/>
          <p:nvPr/>
        </p:nvPicPr>
        <p:blipFill>
          <a:blip r:embed="rId1"/>
          <a:stretch/>
        </p:blipFill>
        <p:spPr>
          <a:xfrm>
            <a:off x="6300720" y="189000"/>
            <a:ext cx="262908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ypoid (fungating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76AB-15CE-4444-8D30-FAD48A899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12680" y="1125360"/>
            <a:ext cx="7417080" cy="451836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nitus plas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275F-1961-4094-98E4-DF2741E33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508880" cy="4795920"/>
          </a:xfrm>
          <a:prstGeom prst="rect">
            <a:avLst/>
          </a:prstGeom>
          <a:ln w="0">
            <a:noFill/>
          </a:ln>
        </p:spPr>
      </p:pic>
      <p:sp>
        <p:nvSpPr>
          <p:cNvPr id="8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lcerating (malignant ulc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C7A9-F8FF-4ABB-95B9-FA6F2E025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553440" cy="4556160"/>
          </a:xfrm>
          <a:prstGeom prst="rect">
            <a:avLst/>
          </a:prstGeom>
          <a:ln w="0">
            <a:noFill/>
          </a:ln>
        </p:spPr>
      </p:pic>
      <p:sp>
        <p:nvSpPr>
          <p:cNvPr id="9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* Histologic subtypes of gastric carcin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440" y="1104840"/>
            <a:ext cx="876312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alibri"/>
              </a:rPr>
              <a:t>1. Intestinal typ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Composed of neoplastic intestinal glands resembling those of colonic adenocarcinoma which permeate the gastric wal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alibri"/>
              </a:rPr>
              <a:t>2. Diffuse type (Signet ring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Composed of malignant mucous cells, which generally do not form glands, but rather permeate the gastric wall as individual cel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1116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0CD6-4302-425F-85CF-EF7DF6676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467280" y="33336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 Gastric carcinoma; Intestinal ty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2D8-FB18-40C2-A2A3-ACB68AF02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7360" y="1341360"/>
            <a:ext cx="8217000" cy="496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360" y="404280"/>
            <a:ext cx="70660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 Gastric carcinoma; Intestinal ty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4544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astric carcinoma: diffuse ty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2FB4-9850-4D29-AC5F-5E1721453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C:\Users\jabdelmenam\Desktop\signet.jpg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472360"/>
          </a:xfrm>
          <a:prstGeom prst="rect">
            <a:avLst/>
          </a:prstGeom>
          <a:ln w="0">
            <a:noFill/>
          </a:ln>
        </p:spPr>
      </p:pic>
      <p:sp>
        <p:nvSpPr>
          <p:cNvPr id="11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1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gastric carcin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IT blee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stric ob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stric perforation specially in the ulcerative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re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Di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Lymphatic: especially to the left supraclavicular lymph node (Virchow’s sig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Blo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Transcoelomic (Krukenberg’s tumo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Clinical Features of gastric carcin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4920" y="1628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tric carcinoma is an insidious disease that is generally asymptomatic until late in its cour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mptoms include weight loss, abdominal pain, anorexia, vomiting, altered bowel habits, and less frequently dysphagia, anemic symptoms, and hemorrh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se symptoms are essentially non-specific, early detection of gastric cancer is difficul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Diagnosis of gastric adenocarcinoma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1. Clinical 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2. Endoscop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valuating both  gross and microscopic appearance  of the tumor by taking biopsy for definitive diagn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4"/>
          <p:cNvSpPr/>
          <p:nvPr/>
        </p:nvSpPr>
        <p:spPr>
          <a:xfrm flipV="1">
            <a:off x="0" y="1091880"/>
            <a:ext cx="9144000" cy="12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3640" y="404640"/>
            <a:ext cx="83739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Epidemiolog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cinoma is the most common malignant tumor of stomach (90% to 95%). Next in order of frequency are lymphomas (4%), carcinoids (3%), and mesenchymal tumors (2%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tric carcinoma is the second most common tumor in the world. Its incidence, however, varies widely, being particularly high in countries such as Jap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e-to-female ratio of about 2: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E56C-8DDF-4C96-AFEA-EAE3238FC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ashawky\Desktop\14690_137571663063771_1571380258_n.jpg"/>
          <p:cNvPicPr/>
          <p:nvPr/>
        </p:nvPicPr>
        <p:blipFill>
          <a:blip r:embed="rId1"/>
          <a:stretch/>
        </p:blipFill>
        <p:spPr>
          <a:xfrm>
            <a:off x="811080" y="669960"/>
            <a:ext cx="7382160" cy="924876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2714-2443-48F1-ACCB-B34C827B6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5076720" y="522936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age Italic"/>
              </a:rPr>
              <a:t>Thanks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"/>
          <p:cNvSpPr/>
          <p:nvPr/>
        </p:nvSpPr>
        <p:spPr>
          <a:xfrm>
            <a:off x="3071880" y="3137040"/>
            <a:ext cx="2720880" cy="13716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105000" y="3321000"/>
            <a:ext cx="26542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tri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nc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24000" y="5300640"/>
            <a:ext cx="2654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11280" y="2060640"/>
            <a:ext cx="2087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940360" y="2060640"/>
            <a:ext cx="2654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tic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328680" y="419040"/>
            <a:ext cx="84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c00000"/>
                </a:solidFill>
                <a:uFillTx/>
                <a:latin typeface="Calibri"/>
                <a:ea typeface="MS PGothic"/>
              </a:rPr>
              <a:t>* Pathogenesis of Gastric Can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6156360" y="5300640"/>
            <a:ext cx="2654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ecancerou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7"/>
          <p:cNvSpPr/>
          <p:nvPr/>
        </p:nvSpPr>
        <p:spPr>
          <a:xfrm>
            <a:off x="2700360" y="2565360"/>
            <a:ext cx="719280" cy="719280"/>
          </a:xfrm>
          <a:prstGeom prst="line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8"/>
          <p:cNvSpPr/>
          <p:nvPr/>
        </p:nvSpPr>
        <p:spPr>
          <a:xfrm flipV="1">
            <a:off x="2987640" y="4508640"/>
            <a:ext cx="576360" cy="792000"/>
          </a:xfrm>
          <a:prstGeom prst="line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9"/>
          <p:cNvSpPr/>
          <p:nvPr/>
        </p:nvSpPr>
        <p:spPr>
          <a:xfrm flipH="1" flipV="1">
            <a:off x="5363640" y="4508640"/>
            <a:ext cx="792360" cy="792000"/>
          </a:xfrm>
          <a:prstGeom prst="line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0"/>
          <p:cNvSpPr/>
          <p:nvPr/>
        </p:nvSpPr>
        <p:spPr>
          <a:xfrm flipH="1">
            <a:off x="5363640" y="2565360"/>
            <a:ext cx="576360" cy="647640"/>
          </a:xfrm>
          <a:prstGeom prst="line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DDD6-3582-4E12-8AF7-1EC7F4E24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09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1. Helicobacter pylori Infectio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nic infection wi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. pylo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erally increases the risk for developing gastric carcinoma by five- to six-f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cterial infection causes chronic gastritis, followed by atrophy, intestinal metaplasia, dysplasia, and carcino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2. Diet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Nitrites derived from nitrates (preserved foo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Smoked and salted foods, pickled vegetables, chili pepp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Lack of fresh fruit and vegetab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2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c00000"/>
                </a:solidFill>
                <a:uFillTx/>
                <a:latin typeface="Calibri"/>
              </a:rPr>
              <a:t>3. Genetic factors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ghtly increased risk with blood group 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history of gastric canc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0629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 u="sng">
                <a:solidFill>
                  <a:srgbClr val="c00000"/>
                </a:solidFill>
                <a:uFillTx/>
                <a:latin typeface="Calibri"/>
              </a:rPr>
              <a:t>4. Precancerous lesions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28600" y="1413000"/>
            <a:ext cx="8763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1. Gastric dysplas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bout 10% of these cases progress to gastric carcinoma specially high-grade dyspl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2. Atrophic gastritis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ssociated with intestinal metapl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3. Chronic gastric peptic ulc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4. Gastric adeno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Morphology of gastric carcinom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ocation of gastric carcinomas within the stomach is as follow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Pylorus and antrum, 50% to 6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The remainder in the body and fundus: 2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esser curvature is involved in about 40% and the greater curvature in 12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, a favored location is the lesser curvature of the antropyloric reg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0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* Gross morphology of gastric  carcinoma: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26792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. Polypoid (fungating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ing a fungating irregular hard mass projecting into the gastric lu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. Infiltra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use (linnitus plast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. Ulcerativ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ing malignant ulc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E30D-DEF5-421C-BB24-D2D74727E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2:02:07Z</dcterms:created>
  <dc:creator>Ran Zhi Hua</dc:creator>
  <dc:description/>
  <dc:language>en-US</dc:language>
  <cp:lastModifiedBy>Jihan Abdelmenam</cp:lastModifiedBy>
  <dcterms:modified xsi:type="dcterms:W3CDTF">2016-01-20T09:58:46Z</dcterms:modified>
  <cp:revision>446</cp:revision>
  <dc:subject/>
  <dc:title>Gastric cancer</dc:title>
</cp:coreProperties>
</file>